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7EB9-E00D-413B-ADEE-5BA12FFC9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1573-B718-4F8F-AFD2-AC8C26875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77FF-D91F-40A3-8C27-A038D7666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8451-5B16-4CC3-A143-FFCBE09A8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A494-A2F0-4024-8380-616FAC470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7AB2-0DD8-411C-BF0C-D60E48C25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9344-3D1F-43A0-ACCA-AEC62726A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82CD-6DCA-477B-8F49-9283737A7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BCE8-8CBD-4A8B-AB9F-9697AD882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3E80-C32E-41A9-8B2C-80AD08FAB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0448-CA75-45BA-AAED-9E46132A3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7196-EB93-4884-AA8C-B9A27FAE2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0E5B-517C-4F7C-A2F3-181DC5232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3C15-070F-4690-8C7D-343CFCD46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96FA-4A7B-4E43-962E-7D289C38D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DE8-7F24-4DC8-BB13-572BB49D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752-97EE-465F-9D7F-382A9F24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372-9B6B-4099-AC3B-BC4D3C79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5C6-D91A-4DD7-B4B1-C6A6D2A4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9A7D-5339-40FA-B49E-98243084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566E-6179-4FC8-B959-30F72BFE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7F16-C706-471B-A954-EA3B158E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5F5D-EAEB-402E-98D1-C1C491AC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324A-CCEB-465B-BE77-CECC63F4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2B0F-1BB6-4DF8-B720-CA2CB81C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9CC2-6C49-4758-A72E-8E893C55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C82-5AC2-42FA-B75C-D7EBCB64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D558-0BE6-4D5C-8F1E-B2FDA69E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1738-2127-4592-A1AB-619198ED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BCE3-811C-4B8E-AC92-CEB358E1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73C9-B1E2-406E-A42B-5DB5D1D1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D84F-FAFA-4EF3-A5A0-A8BFA912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E04F-A6AF-4635-B171-A4B62591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F3AA-28FF-4861-B940-0F49C2CA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18D2-7BCB-4E49-BD2A-9E88FB5C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57E71-D4B1-4031-9AFC-3A4EE165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2466-C30C-4511-BE49-4A992C14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2F5-5D04-4A4F-A5B2-FA58F6C7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44B4-F933-4F4A-886E-E992F289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AEC7E-D894-4CC1-9D82-DFD0647C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EEEFB-609A-44BF-AA6D-D72E4762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707D-843D-4189-89E5-79EF5BE4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A009-B436-47F6-A353-AD902A6F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CE146-CE3C-4D5B-8562-CB767A25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6335D-9C25-4A00-918A-26FA2CA8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52564-DEB8-4C97-9193-025523EB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602DF-25CE-425E-9A7F-D49D157B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556FA-C56C-4F88-835F-DC360042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A32-A957-46BA-A82B-12675B23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F5916-FBAB-4374-8ACC-86EFFA17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5BE32-32A1-4E74-9EF1-7C6B0771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3E382-7B65-48B8-95C5-0BDBBB7A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12561-9035-4D31-8A66-C71EEBA9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BF44A-278D-4DAF-B574-7C198F0E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82328-EF6B-4322-8F37-EE9BC514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8873E-900B-4288-A436-351F1F62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F131-4084-4F3D-8574-4EA619D9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32724-359A-4572-8422-3956CAA5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10895-7D94-4C1C-961B-014F455D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96D-3192-4885-8FB2-150AC785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012EE-B85A-4477-ACD4-453FC10E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04107-36C2-49F7-9E68-B10BCCC6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A71D7-E98C-4EF4-8025-9BACAE56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8C1B6-9C9F-49FE-BBCB-E01D2408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B0ED5-FDC1-4461-9AC6-DAE7107F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12FF1-5142-4DBD-A194-DF173230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3DF47-B932-4F0B-A332-7903857C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C3FB1-1623-4237-B21F-252B7FC4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1A933-E7F0-4BD2-8531-77A391CA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EB3D3-5427-4743-8251-8CA09318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35D-EBDF-44B8-ACF0-EB53E101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DF743-1AE0-4E28-BA7B-BC80C6C5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A1CF8-5A03-4A5C-AEA5-66A4837A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9B364-6482-4216-B60F-8A741A40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3F2BD-23BC-47E5-99B4-100531A0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43A00-6619-44C9-AFDE-CA8B0CBA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40DFC-298E-471B-B2A0-CB21DA3A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F80C4-10A7-4696-8366-BA9F6C01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F4327-D62B-4508-86BB-94D19A25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FA304-E248-45A6-B6AE-613763AE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02C0F-1E75-4FC7-BD33-05468C88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51A-3F81-4261-9ED8-0AB7E84C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97EB1-21FF-4C87-9CB6-462AEEB2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5818B-210E-4E94-97D7-7AF75995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E2D4A-B114-419E-8BC3-DFD723C7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56818-05EA-4BB4-ABC2-247A0859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A73A3-4615-4316-A46C-37C086C8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FA632-9BE8-49BA-9A20-F2CB4915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38494-7AC2-4470-9B1E-8393F2F8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EFD07-D316-4EE7-A315-E9BABD90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2A720-D14C-40A2-BF2D-64094873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042CE-C929-458C-9C1D-C9000181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9074-343A-4086-AC72-9B849F8B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4B1F3-35DC-4C32-B307-26E42521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0DAEA-F455-4545-B2DE-56899595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C9710-34E4-42B9-8ED5-88F7AFE2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B7C39-A77C-4EF9-9FA0-3649E599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EA7B6-8DB6-4F85-A7B8-A7250CA1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FCD-7D7B-4AF5-92A0-337819F6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CB6D-8777-40BD-A1D3-08948D9ED05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7F98-C70B-46D6-956A-03E60EFED9F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0BB2-A0DC-43F7-A3AA-AE6433F6F0B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3796-8611-4826-AD45-A844274ED20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7C6E-B88B-4463-AEE1-D49048C4164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4197-7289-4D90-ADE0-887E9B8C41C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D806-F5B3-4E9A-9EAE-FEAC7827D07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Gill Sans MT"/>
              </a:rPr>
              <a:t>Feeding An Infant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Picture 2" descr="C:\Users\Paula\AppData\Local\Microsoft\Windows\Temporary Internet Files\Content.IE5\C07T42H9\MC900024496[1].wmf"/>
          <p:cNvPicPr/>
          <p:nvPr/>
        </p:nvPicPr>
        <p:blipFill>
          <a:blip r:embed="rId1"/>
          <a:stretch/>
        </p:blipFill>
        <p:spPr>
          <a:xfrm>
            <a:off x="5438880" y="1662120"/>
            <a:ext cx="3198600" cy="4510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TED OBJECTIVE(S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TED OBJECTIVE(S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udents find videos on the subject of feeding infants and add to the class Wik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TED OBJECTIVE(S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udents find videos on the subject of feeding infants and add to the class Wik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udents practice by playing a multimedia came on the topic of fee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TED OBJECTIVE(S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udents find videos on the subject of feeding infants and add to the class Wik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udents practice by playing a multimedia came on the topic of fee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the information gained students use a word processing program to write a short essay on their choice of breastfeeding or bottle fee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486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esson 2 Rubric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143000" y="914400"/>
          <a:ext cx="7772400" cy="5334120"/>
        </p:xfrm>
        <a:graphic>
          <a:graphicData uri="http://schemas.openxmlformats.org/drawingml/2006/table">
            <a:tbl>
              <a:tblPr/>
              <a:tblGrid>
                <a:gridCol w="1504800"/>
                <a:gridCol w="1781280"/>
                <a:gridCol w="1492200"/>
                <a:gridCol w="1428840"/>
                <a:gridCol w="1565280"/>
              </a:tblGrid>
              <a:tr h="66672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them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porting detail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agraph centered around a significant idea or topic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ceptionally clear, focused, engaging with relevant, strong supporting detail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main idea or topic is clear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lear, focused, interesting idea with appropriate detail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idea may be cloudy because supporting detail is too general or even off-topic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Garamond"/>
                          <a:ea typeface="Calibri"/>
                        </a:rPr>
                        <a:t>Lacks central  ide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Garamond"/>
                          <a:ea typeface="Calibri"/>
                        </a:rPr>
                        <a:t>Development is minimal or non-existen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ganizat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uctur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roduct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clus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ffectively organized in logical and creative manner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eative and engaging intro and conclus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ong order and structur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viting intro and satisfying closur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ttempts at organization; may be a “list” of item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ginning and ending not clear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ck of coherence; confusing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 identifiable beginning or ending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oic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sonality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nse of audienc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ressive, engaging, sincer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ong sense of audienc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hows emotion: humor, honesty, suspense or lif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ropriate to audience and purpos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riter behind the words comes through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oice may be inappropriate or non-existen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riting may seen mechanical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riting is lifeles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 hint of the writer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d Choic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cis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ffectivenes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agery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cise, carefully chose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ong, fresh, vivid image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ve, broad range of word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d choice energizes writing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ds may be correct but mundan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n words chose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mited range of word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me vocabulary misuse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ntence Fluency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hythm, flow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ety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gh degree of craftsmanshi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ffective variation in sentence pattern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sy flow and rhythm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ood variety in length and structur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me awkward construction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n simple pattern use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veral sentences begin the same way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fficult to follow or read alou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jointed, confusing, rambling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vention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ge appropriate for spelling, caps, punctuation, grammar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ceptionally strong control of standard conventions of writing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x conventions attempte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ong control of convention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rrors are few and minor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mited control of convention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me errors in common patterns or structures do not unduly interfere with understanding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erous errors distract the reader and make the text difficult to rea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rrors may be made more than one way for the same pattern or structur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 of Word program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n use and produce a writing using a word processing program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udent knows how to produce an exceptional word document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udent knows how to produce a word document but needs a little work in using some of the feature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udents can produce a word document but needs more work in using some important feature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udent needs to work on learning how to use a word processing program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udent can produce a product but needs to use more of the features to create a better product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m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n complete an assignment within a given time frame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tes the assignment before or on due date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tes the assignment one to two  days late and communicates this to the teacher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tes the assignment one to two days late doesn’t communicate this to the teacher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tes the assignment within one week of the due date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Rectangle 1"/>
          <p:cNvSpPr/>
          <p:nvPr/>
        </p:nvSpPr>
        <p:spPr>
          <a:xfrm>
            <a:off x="4214160" y="-13788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Ma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ACS National Stand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a of Study 15.0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en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ACS National Stand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a of Study 15.0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en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5.1 Analyze roles and responsibilities of paren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ACS National Stand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a of Study 15.0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en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5.1 Analyze roles and responsibilities of paren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5.2 Evaluate parenting practices that maximize human growth and develop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ACS National Stand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ea of Study 15.0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arent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5.1 Analyze roles and responsibilities of parent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5.2 Evaluate parenting practices that maximize human growth and developmen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5.4 Analyze physical &amp; emotional factors related to beginning the parenting process.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isconsin Technology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ndard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isconsin Technology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ndard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.  Media &amp; Technology (A.12.3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isconsin Technology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ndard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.  Media &amp; Technology (A.12.3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.  Information &amp; Inquiry(B.12.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isconsin Technology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ndard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.  Media &amp; Technology (A.12.3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.  Information &amp; Inquiry(B.12.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.  The Learning Community(D.12.1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1:23:49Z</dcterms:created>
  <dc:creator>Paula</dc:creator>
  <dc:description/>
  <dc:language>en-US</dc:language>
  <cp:lastModifiedBy>Paula</cp:lastModifiedBy>
  <dcterms:modified xsi:type="dcterms:W3CDTF">2010-06-17T13:13:33Z</dcterms:modified>
  <cp:revision>3</cp:revision>
  <dc:subject/>
  <dc:title>Feeding An Infant</dc:title>
</cp:coreProperties>
</file>